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7DE-3BE5-4739-BC33-09645623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9462-4141-442E-87F5-E4A8DFFA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8BA-3278-48B6-9D4D-95180706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7FF-3161-4073-8EC9-68C59819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4CFC-4B81-41F8-9986-AD693099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236C-2730-468D-ADC9-1ED2854F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1246-3306-4675-82A4-B61DDF8F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0585-5D4F-488F-AA7D-FD3650EB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F0E0-0ACA-41AD-9E14-55D70F3E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DF4C-6D32-4E19-AB17-52EB26A3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ECA7-EB8D-4AAB-8D6D-C77F294D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513-32F1-42BA-B1FE-3AA2C3D2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A423-E148-4486-838C-25B3E0A1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043B-4937-43DF-9A46-BAEE9C5A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4D6F-0E4E-4C12-B966-E3DC1C72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4870-26EF-4E3F-9BFF-7C24C931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6ED5-CEE7-4FE9-A814-DC0714E1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0CD-2E74-437E-9932-E793E51B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04E-8E76-48AA-B1B9-EE740007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25C5-BCD2-4AB3-B6E0-1C112734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08C7-D4A0-4DBB-A7B9-72F8DD3F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F4A3-572E-487D-B682-F50D22CA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951-B172-4C63-99F9-F1D0161E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D51-0543-4CBA-B1AC-6CDBDDF5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5A47-8B2D-4120-B2D2-20FB7D6CA4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7A97-9A88-4302-A49D-C46A251286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41280" y="549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SK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6640" y="2649960"/>
            <a:ext cx="733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KAL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liczba oznaczająca, ile razy daną rzecz pomniejszyliśmy lub powiększyliśm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KALE LICZBOW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06640" y="1089000"/>
            <a:ext cx="274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 : 1 –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braz rzeczywi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6640" y="1628640"/>
            <a:ext cx="702144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kala pomniejszają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 : 2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mniejszająca dokładnie 2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 : 3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mniejszająca dokładnie 3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 : 10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mniejszająca dokładnie 10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 : 16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mniejszająca dokładnie 16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06640" y="3608280"/>
            <a:ext cx="70214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kala powiększają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 : 1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większająca dokładnie 2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5 : 1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większająca dokładnie 5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5 : 1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większająca dokładnie 15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440" y="5124600"/>
            <a:ext cx="651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Ćwicze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poniższych skal wybierz skale pomniejszające i powiększają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0960" y="5858640"/>
            <a:ext cx="84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: 7         13 : 1         1000 : 1          1 : 20         1 : 55         150 : 1         1 : 10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 SKALOWA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az 172" descr=""/>
          <p:cNvPicPr/>
          <p:nvPr/>
        </p:nvPicPr>
        <p:blipFill>
          <a:blip r:embed="rId1"/>
          <a:srcRect l="3985" t="7887" r="62359" b="39974"/>
          <a:stretch/>
        </p:blipFill>
        <p:spPr>
          <a:xfrm>
            <a:off x="1376280" y="1494000"/>
            <a:ext cx="1890720" cy="2339640"/>
          </a:xfrm>
          <a:prstGeom prst="rect">
            <a:avLst/>
          </a:prstGeom>
          <a:ln w="0">
            <a:noFill/>
          </a:ln>
        </p:spPr>
      </p:pic>
      <p:pic>
        <p:nvPicPr>
          <p:cNvPr id="107" name="Obraz 172" descr=""/>
          <p:cNvPicPr/>
          <p:nvPr/>
        </p:nvPicPr>
        <p:blipFill>
          <a:blip r:embed="rId2"/>
          <a:srcRect l="3972" t="7863" r="62340" b="39958"/>
          <a:stretch/>
        </p:blipFill>
        <p:spPr>
          <a:xfrm>
            <a:off x="4572000" y="1444680"/>
            <a:ext cx="3782880" cy="4684680"/>
          </a:xfrm>
          <a:prstGeom prst="rect">
            <a:avLst/>
          </a:prstGeom>
          <a:ln w="0">
            <a:noFill/>
          </a:ln>
        </p:spPr>
      </p:pic>
      <p:pic>
        <p:nvPicPr>
          <p:cNvPr id="108" name="Obraz 172" descr=""/>
          <p:cNvPicPr/>
          <p:nvPr/>
        </p:nvPicPr>
        <p:blipFill>
          <a:blip r:embed="rId3"/>
          <a:srcRect l="3972" t="7863" r="62340" b="39958"/>
          <a:stretch/>
        </p:blipFill>
        <p:spPr>
          <a:xfrm>
            <a:off x="1892160" y="5183280"/>
            <a:ext cx="474840" cy="587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46280" y="1112760"/>
            <a:ext cx="12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kala 1 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3789360"/>
            <a:ext cx="27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zeczywiste wymiary zdję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1066680"/>
            <a:ext cx="121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kala 2 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57360" y="4735440"/>
            <a:ext cx="12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kala 1 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000" y="5773680"/>
            <a:ext cx="274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Zdjęcie zostało pomniejszone 4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6087960"/>
            <a:ext cx="27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Zdjęcie zostało powiększone 2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16000" y="0"/>
            <a:ext cx="80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Y – SKALA POMNIEJSZAJĄ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764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1640" y="1042920"/>
            <a:ext cx="84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. Dany jest odcinek o długości 400 cm. Jaka będzie długość odcinka w skali 1 : 100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63440" y="1942560"/>
            <a:ext cx="54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działa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400 cm : 100 = 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1640" y="2484360"/>
            <a:ext cx="78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2. Dany jest odcinek o długości 6 mm. Jaka będzie długość odcinka w skali 1 : 2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06400" y="2887920"/>
            <a:ext cx="5313240" cy="520200"/>
            <a:chOff x="1706400" y="2887920"/>
            <a:chExt cx="5313240" cy="520200"/>
          </a:xfrm>
        </p:grpSpPr>
        <p:sp>
          <p:nvSpPr>
            <p:cNvPr id="123" name=""/>
            <p:cNvSpPr/>
            <p:nvPr/>
          </p:nvSpPr>
          <p:spPr>
            <a:xfrm>
              <a:off x="1706400" y="2887920"/>
              <a:ext cx="531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 :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 rzeczywist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ś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i                                po zastosowaniu sk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Łącznik prosty ze strzałką 177"/>
            <p:cNvCxnSpPr/>
            <p:nvPr/>
          </p:nvCxnSpPr>
          <p:spPr>
            <a:xfrm>
              <a:off x="3671640" y="3249360"/>
              <a:ext cx="962640" cy="1080"/>
            </a:xfrm>
            <a:prstGeom prst="straightConnector1">
              <a:avLst/>
            </a:prstGeom>
            <a:ln w="12600">
              <a:solidFill>
                <a:srgbClr val="70ad47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1916640" y="3421800"/>
            <a:ext cx="50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działa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6 mm : 2 = 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7360" y="4014720"/>
            <a:ext cx="8235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. Dany jest odcinek o długości 600 m. Jaka będzie długość odcinka w skali 1 : 100000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pierwszej kolejności zamieniamy 600 m na centymetry. Pamiętamy, że 1 m = 100 cm.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atem 600 m = 60 000 c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6040" y="4845240"/>
            <a:ext cx="531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0 00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1 :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0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 rzeczywist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                                po zastosowaniu sk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Łącznik prosty ze strzałką 177"/>
          <p:cNvCxnSpPr/>
          <p:nvPr/>
        </p:nvCxnSpPr>
        <p:spPr>
          <a:xfrm>
            <a:off x="3941280" y="5229000"/>
            <a:ext cx="963000" cy="1080"/>
          </a:xfrm>
          <a:prstGeom prst="straightConnector1">
            <a:avLst/>
          </a:prstGeom>
          <a:ln w="12600">
            <a:solidFill>
              <a:srgbClr val="70ad47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1829520" y="5363280"/>
            <a:ext cx="60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działa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60 000 cm : 10000 = 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616040" y="1357560"/>
            <a:ext cx="5313240" cy="520200"/>
            <a:chOff x="1616040" y="1357560"/>
            <a:chExt cx="5313240" cy="520200"/>
          </a:xfrm>
        </p:grpSpPr>
        <p:sp>
          <p:nvSpPr>
            <p:cNvPr id="131" name=""/>
            <p:cNvSpPr/>
            <p:nvPr/>
          </p:nvSpPr>
          <p:spPr>
            <a:xfrm>
              <a:off x="1616040" y="1357560"/>
              <a:ext cx="531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400 c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 : 10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4 c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 rzeczywist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ś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i                                po zastosowaniu sk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" name="Łącznik prosty ze strzałką 177"/>
            <p:cNvCxnSpPr/>
            <p:nvPr/>
          </p:nvCxnSpPr>
          <p:spPr>
            <a:xfrm>
              <a:off x="3581280" y="1717560"/>
              <a:ext cx="962640" cy="1080"/>
            </a:xfrm>
            <a:prstGeom prst="straightConnector1">
              <a:avLst/>
            </a:prstGeom>
            <a:ln w="12600">
              <a:solidFill>
                <a:srgbClr val="70ad47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16000" y="0"/>
            <a:ext cx="80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Y – SKALA POWIĘKSZAJĄ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764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1640" y="1042920"/>
            <a:ext cx="84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. Dany jest odcinek o długości 3 mm. Jaka będzie długość odcinka w skali 100 : 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3080" y="1942560"/>
            <a:ext cx="57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mnoże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3 mm • 100 = 3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1640" y="2484360"/>
            <a:ext cx="78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2. Dany jest odcinek o długości 8 cm. Jaka będzie długość odcinka w skali 8 : 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06400" y="3022920"/>
            <a:ext cx="5313240" cy="520200"/>
            <a:chOff x="1706400" y="3022920"/>
            <a:chExt cx="5313240" cy="520200"/>
          </a:xfrm>
        </p:grpSpPr>
        <p:sp>
          <p:nvSpPr>
            <p:cNvPr id="141" name=""/>
            <p:cNvSpPr/>
            <p:nvPr/>
          </p:nvSpPr>
          <p:spPr>
            <a:xfrm>
              <a:off x="1706400" y="3022920"/>
              <a:ext cx="531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 :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64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 rzeczywist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ś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i                                po zastosowaniu sk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" name="Łącznik prosty ze strzałką 177"/>
            <p:cNvCxnSpPr/>
            <p:nvPr/>
          </p:nvCxnSpPr>
          <p:spPr>
            <a:xfrm>
              <a:off x="3671640" y="3384360"/>
              <a:ext cx="962640" cy="1080"/>
            </a:xfrm>
            <a:prstGeom prst="straightConnector1">
              <a:avLst/>
            </a:prstGeom>
            <a:ln w="12600">
              <a:solidFill>
                <a:srgbClr val="70ad47"/>
              </a:solidFill>
              <a:miter/>
              <a:tailEnd len="med" type="triangle" w="med"/>
            </a:ln>
          </p:spPr>
        </p:cxnSp>
      </p:grpSp>
      <p:sp>
        <p:nvSpPr>
          <p:cNvPr id="143" name=""/>
          <p:cNvSpPr/>
          <p:nvPr/>
        </p:nvSpPr>
        <p:spPr>
          <a:xfrm>
            <a:off x="1916640" y="3556800"/>
            <a:ext cx="51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mnoże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8 cm • 8 = 6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7360" y="4249800"/>
            <a:ext cx="82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Dany jest odcinek o długości 15 m. Jaka będzie długość odcinka w skali 5 : 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86040" y="4845240"/>
            <a:ext cx="531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: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 rzeczywist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                                po zastosowaniu sk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Łącznik prosty ze strzałką 177"/>
          <p:cNvCxnSpPr/>
          <p:nvPr/>
        </p:nvCxnSpPr>
        <p:spPr>
          <a:xfrm>
            <a:off x="3941280" y="5229000"/>
            <a:ext cx="963000" cy="1080"/>
          </a:xfrm>
          <a:prstGeom prst="straightConnector1">
            <a:avLst/>
          </a:prstGeom>
          <a:ln w="12600">
            <a:solidFill>
              <a:srgbClr val="70ad47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827360" y="5363280"/>
            <a:ext cx="50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mnoże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5 m • 5 = 7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16040" y="1357560"/>
            <a:ext cx="5313240" cy="520200"/>
            <a:chOff x="1616040" y="1357560"/>
            <a:chExt cx="5313240" cy="520200"/>
          </a:xfrm>
        </p:grpSpPr>
        <p:sp>
          <p:nvSpPr>
            <p:cNvPr id="149" name=""/>
            <p:cNvSpPr/>
            <p:nvPr/>
          </p:nvSpPr>
          <p:spPr>
            <a:xfrm>
              <a:off x="1616040" y="1357560"/>
              <a:ext cx="531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00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 : 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300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 rzeczywist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ś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i                                po zastosowaniu sk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Łącznik prosty ze strzałką 177"/>
            <p:cNvCxnSpPr/>
            <p:nvPr/>
          </p:nvCxnSpPr>
          <p:spPr>
            <a:xfrm>
              <a:off x="3581280" y="1717560"/>
              <a:ext cx="962640" cy="1080"/>
            </a:xfrm>
            <a:prstGeom prst="straightConnector1">
              <a:avLst/>
            </a:prstGeom>
            <a:ln w="12600">
              <a:solidFill>
                <a:srgbClr val="70ad47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27:51Z</dcterms:modified>
  <cp:revision>31</cp:revision>
  <dc:subject/>
  <dc:title>Slajd 1</dc:title>
</cp:coreProperties>
</file>